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073-4102-4E1F-9EF0-7DF2D4FF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F99-598C-4D33-ADCE-5B6F637F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CA4-688C-4C56-9BC1-1538AB40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D86-E06F-432A-A2A0-BCE8FDDC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AA4-44BB-4B2F-999C-F1FD7F6E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EE0-45B3-4B48-8B42-79AB377F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F7F1-85B8-4395-8C8F-32893E26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35D-1721-4C26-8DD9-C3800E21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F3D-8DD5-4978-A399-DA084057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640-76BE-4DEE-9718-E4DF928C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26C-82C9-4FDC-A0FB-886743E0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DD4C-3714-48EA-9626-CFB627C5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8D3F-9379-4F9A-9830-E294C61D4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/imgres?imgurl=http://www.rp-online.de/layout/showbilder/9005-beckham%2520ap.jpg&amp;imgrefurl=http://www.ecobachillerato.com/blog3/2006/02/el-rey-midas-del-ftbol.html&amp;h=276&amp;w=350&amp;sz=19&amp;hl=en&amp;start=116&amp;tbnid=8HhZ1waXCxelLM:&amp;tbnh=95&amp;tbnw=120&amp;prev=/images%3Fq%3Dpublicidad%2Bde%2Bdavid%2Bbeckham%26start%3D100%26gbv%3D2%26ndsp%3D20%26hl%3Den%26sa%3DN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2349360"/>
            <a:ext cx="66261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VID BECKHAM</a:t>
            </a:r>
            <a:endParaRPr b="0" i="1" lang="en-US" sz="1800" spc="1" strike="noStrike">
              <a:ln w="936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99ff"/>
                </a:solidFill>
                <a:latin typeface="Bradley Hand ITC"/>
              </a:rPr>
              <a:t>His real name is:</a:t>
            </a:r>
            <a:r>
              <a:rPr b="1" lang="es-E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s-ES" sz="2800" spc="-1" strike="noStrike">
                <a:solidFill>
                  <a:srgbClr val="99ccff"/>
                </a:solidFill>
                <a:latin typeface="Bradley Hand ITC"/>
              </a:rPr>
              <a:t>David Robert Joseph Beckh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99ff"/>
                </a:solidFill>
                <a:latin typeface="Bradley Hand ITC"/>
              </a:rPr>
              <a:t>He was born: </a:t>
            </a:r>
            <a:r>
              <a:rPr b="1" lang="es-ES" sz="2800" spc="-1" strike="noStrike">
                <a:solidFill>
                  <a:srgbClr val="99ccff"/>
                </a:solidFill>
                <a:latin typeface="Bradley Hand ITC"/>
              </a:rPr>
              <a:t>2 may of 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99ff"/>
                </a:solidFill>
                <a:latin typeface="Bradley Hand ITC"/>
              </a:rPr>
              <a:t>He was born  in: </a:t>
            </a:r>
            <a:r>
              <a:rPr b="1" lang="es-ES" sz="2800" spc="-1" strike="noStrike">
                <a:solidFill>
                  <a:srgbClr val="99ccff"/>
                </a:solidFill>
                <a:latin typeface="Bradley Hand ITC"/>
              </a:rPr>
              <a:t>Leytonstone, London, Eng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857680" cy="3905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42920" y="2602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omic Sans MS"/>
              </a:rPr>
              <a:t>HI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Ravie"/>
              </a:rPr>
              <a:t>SENIORS CLU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radley Hand ITC"/>
              </a:rPr>
              <a:t>                                                                              </a:t>
            </a:r>
            <a:r>
              <a:rPr b="1" lang="en-GB" sz="1600" spc="-1" strike="noStrike" u="sng">
                <a:solidFill>
                  <a:srgbClr val="3399ff"/>
                </a:solidFill>
                <a:uFillTx/>
                <a:latin typeface="Bradley Hand ITC"/>
              </a:rPr>
              <a:t>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ff"/>
                </a:solidFill>
                <a:latin typeface="Bradley Hand ITC"/>
              </a:rPr>
              <a:t>Manchester United→</a:t>
            </a:r>
            <a:r>
              <a:rPr b="1" lang="en-GB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1993-2003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2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ff"/>
                </a:solidFill>
                <a:latin typeface="Bradley Hand ITC"/>
              </a:rPr>
              <a:t>Preston North End (loan) →</a:t>
            </a:r>
            <a:r>
              <a:rPr b="1" lang="en-GB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1995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ff"/>
                </a:solidFill>
                <a:latin typeface="Bradley Hand ITC"/>
              </a:rPr>
              <a:t> </a:t>
            </a:r>
            <a:r>
              <a:rPr b="1" lang="en-GB" sz="2400" spc="-1" strike="noStrike">
                <a:solidFill>
                  <a:srgbClr val="3399ff"/>
                </a:solidFill>
                <a:latin typeface="Bradley Hand ITC"/>
              </a:rPr>
              <a:t>Real Madrid→</a:t>
            </a:r>
            <a:r>
              <a:rPr b="1" lang="en-GB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2003.2007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ff"/>
                </a:solidFill>
                <a:latin typeface="Bradley Hand ITC"/>
              </a:rPr>
              <a:t>Los Angeles Galaxy →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2007-¿?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	</a:t>
            </a:r>
            <a:r>
              <a:rPr b="1" lang="en-GB" sz="2400" spc="-1" strike="noStrike">
                <a:solidFill>
                  <a:srgbClr val="99ccff"/>
                </a:solidFill>
                <a:latin typeface="Bradley Hand ITC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27640" y="3860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Bradley Hand ITC"/>
              </a:rPr>
              <a:t>Nowadays he plays in Los Angeles Galaxy, of which he is a captain, from July 1, 2007. Previously, he developed all his sports career in the Manchester United and Real Madr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Bradley Hand ITC"/>
              </a:rPr>
              <a:t>Considered by many people as the best  free shot stricker of the world,  due to his great precision and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4365720"/>
            <a:ext cx="331308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99c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ff"/>
                </a:solidFill>
                <a:latin typeface="Bradley Hand ITC"/>
              </a:rPr>
              <a:t>Fashion 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Bradley Hand ITC"/>
              </a:rPr>
              <a:t>He is now rich and famous, because he advertises lots of things: perfumes, razors, clothes, mobile phone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Bradley Hand ITC"/>
              </a:rPr>
              <a:t>His wife, Victoria Beckham, is also very famous and a fashion ic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4437000"/>
            <a:ext cx="2519280" cy="1994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1993680" cy="230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659640" y="260280"/>
            <a:ext cx="208764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619280" y="2133720"/>
            <a:ext cx="5977080" cy="16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Stout"/>
              </a:rPr>
              <a:t>The End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558972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Bradley Hand ITC"/>
              </a:rPr>
              <a:t>By: Almudena Mirón P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11:17Z</dcterms:created>
  <dc:creator>Alumno55</dc:creator>
  <dc:description/>
  <dc:language>en-US</dc:language>
  <cp:lastModifiedBy>Alumno55</cp:lastModifiedBy>
  <dcterms:modified xsi:type="dcterms:W3CDTF">2008-06-09T08:38:00Z</dcterms:modified>
  <cp:revision>6</cp:revision>
  <dc:subject/>
  <dc:title>Diapositiva 1</dc:title>
</cp:coreProperties>
</file>